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B9D-955F-4BD3-989E-79DBDA8C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13D-C51F-44EC-BDB6-2F483E2A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D7B-6D39-4707-AE58-9CBCA1F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F78-260D-4E7B-993F-B23AD14A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9C4-25E0-4548-BD1D-3DCE3F32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84F-BD49-4ECE-9250-2E9E00D1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54B-C7CF-4C16-943D-835D7F47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F8A-5FE5-4D01-92DF-3F3D73CF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3DD-5057-4796-B4E6-F1070623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E49-7915-4EE0-84C0-82ADB56A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E62-007D-4E24-8A48-BB6FB5D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54F-49E1-4E4E-AC94-F6109D78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C61B-FBDC-47AE-8F17-C27E11EDB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352680" y="30492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ce were you make some dissection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286000" y="2666880"/>
            <a:ext cx="4267080" cy="2562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k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99.8% Islam .2% Christia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antimony, coal, chromium, mercu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352680" y="6488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 Tur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ock tower in Turke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Flag of Turkey"/>
          <p:cNvPicPr/>
          <p:nvPr/>
        </p:nvPicPr>
        <p:blipFill>
          <a:blip r:embed="rId1"/>
          <a:stretch/>
        </p:blipFill>
        <p:spPr>
          <a:xfrm>
            <a:off x="3029040" y="4986360"/>
            <a:ext cx="2146320" cy="31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Map of Turkey"/>
          <p:cNvPicPr/>
          <p:nvPr/>
        </p:nvPicPr>
        <p:blipFill>
          <a:blip r:embed="rId2"/>
          <a:stretch/>
        </p:blipFill>
        <p:spPr>
          <a:xfrm>
            <a:off x="-6480" y="-6480"/>
            <a:ext cx="3670560" cy="253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Map of Turkey"/>
          <p:cNvPicPr/>
          <p:nvPr/>
        </p:nvPicPr>
        <p:blipFill>
          <a:blip r:embed="rId3"/>
          <a:stretch/>
        </p:blipFill>
        <p:spPr>
          <a:xfrm>
            <a:off x="5479920" y="-6480"/>
            <a:ext cx="3670560" cy="1920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2"/>
          <p:cNvSpPr/>
          <p:nvPr/>
        </p:nvSpPr>
        <p:spPr>
          <a:xfrm>
            <a:off x="228600" y="6477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ga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Antalya, Turkey photo"/>
          <p:cNvPicPr/>
          <p:nvPr/>
        </p:nvPicPr>
        <p:blipFill>
          <a:blip r:embed="rId4"/>
          <a:stretch/>
        </p:blipFill>
        <p:spPr>
          <a:xfrm>
            <a:off x="6589800" y="1901880"/>
            <a:ext cx="2577960" cy="384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lock tower, Izmir, Turkey photo"/>
          <p:cNvPicPr/>
          <p:nvPr/>
        </p:nvPicPr>
        <p:blipFill>
          <a:blip r:embed="rId5"/>
          <a:stretch/>
        </p:blipFill>
        <p:spPr>
          <a:xfrm>
            <a:off x="0" y="3352680"/>
            <a:ext cx="232560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TextBox 14"/>
          <p:cNvSpPr/>
          <p:nvPr/>
        </p:nvSpPr>
        <p:spPr>
          <a:xfrm>
            <a:off x="67816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alya, Tur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6" descr="Ancient agora of Smyrna, Izmir, Turkey photo"/>
          <p:cNvPicPr/>
          <p:nvPr/>
        </p:nvPicPr>
        <p:blipFill>
          <a:blip r:embed="rId6"/>
          <a:stretch/>
        </p:blipFill>
        <p:spPr>
          <a:xfrm>
            <a:off x="6699240" y="4645080"/>
            <a:ext cx="2451240" cy="1847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0"/>
          <p:cNvSpPr/>
          <p:nvPr/>
        </p:nvSpPr>
        <p:spPr>
          <a:xfrm>
            <a:off x="6400800" y="6477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agora of Smyr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15:32:42Z</dcterms:modified>
  <cp:revision>21</cp:revision>
  <dc:subject/>
  <dc:title>Slide 1</dc:title>
</cp:coreProperties>
</file>